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A61-9B15-4D9B-97D6-B0887EE1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67E-2B0B-440B-9C96-AD7CF05D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E6C-5C5D-4778-93D8-C7A7989C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D62-56C0-44DA-BEDD-C00B0F8F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8AF-4D62-434B-9E46-AFA0B0FD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203-6F9D-47AD-999B-C681DA6A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70A-67A0-4C19-B732-E6F7FD95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007-1465-4B31-8A28-724003BF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E6F-89C4-4DD4-A163-D3DEC1D2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16A-8410-4EA6-A42E-ADE4A63D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1BF-79C5-4B85-B95B-EDD5DE16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F1D-010D-4A17-BBA0-7630AE18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EEC4-D9DC-40EB-B248-87379CBCBE5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0" b="64088"/>
          <a:stretch/>
        </p:blipFill>
        <p:spPr>
          <a:xfrm>
            <a:off x="0" y="44280"/>
            <a:ext cx="9109080" cy="11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0" t="43678" r="0" b="0"/>
          <a:stretch/>
        </p:blipFill>
        <p:spPr>
          <a:xfrm>
            <a:off x="179280" y="2708280"/>
            <a:ext cx="8713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ميت سورة الأعراف بهذا الا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لفظ (الأعراف) فيها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06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 إلا الآيات من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6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إلى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70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فمدن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5295960" cy="576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71628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407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43354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6"/>
          <p:cNvCxnSpPr/>
          <p:nvPr/>
        </p:nvCxnSpPr>
        <p:spPr>
          <a:xfrm flipH="1">
            <a:off x="8456040" y="49413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479736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عث والجنة والنا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8"/>
          <p:cNvSpPr/>
          <p:nvPr/>
        </p:nvSpPr>
        <p:spPr>
          <a:xfrm>
            <a:off x="8820000" y="4327560"/>
            <a:ext cx="0" cy="20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19"/>
          <p:cNvCxnSpPr/>
          <p:nvPr/>
        </p:nvCxnSpPr>
        <p:spPr>
          <a:xfrm flipH="1">
            <a:off x="8456040" y="4652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4459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حيد والرسا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1"/>
          <p:cNvCxnSpPr/>
          <p:nvPr/>
        </p:nvCxnSpPr>
        <p:spPr>
          <a:xfrm flipH="1">
            <a:off x="8456040" y="53319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515772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ص الأنبياء والأمم الساب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56685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55180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بعض القضايا الاجتماع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8920" y="60098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5600" y="5834160"/>
            <a:ext cx="82090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بعض الآداب والأخلاق الإسلام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7"/>
          <p:cNvCxnSpPr/>
          <p:nvPr/>
        </p:nvCxnSpPr>
        <p:spPr>
          <a:xfrm flipH="1">
            <a:off x="8458920" y="63468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5600" y="6194520"/>
            <a:ext cx="8209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المعاصي والإعراض عن طاعة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1424160" y="1700280"/>
            <a:ext cx="7372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